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2E8-942D-4FFF-9CD2-FF60CF2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D99-02EC-4D36-B214-9CF8CEB5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3C0-E8AD-4560-BE4E-6F21741E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D8A-7729-4499-A9D5-A962A398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F6B-D316-4983-BE99-23A9334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C8E-8391-4152-89CD-B48D2618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8D3-ACD5-4A1E-ACF1-6F860E9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C5A-4836-41F8-A024-56A15DB1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438-25E2-49C6-9901-65A73F51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128-191C-42B4-9823-BA51DB1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8A9-7767-4BF6-8C9F-F2836F6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251-EECC-48E9-AA55-387DEC2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344-05D4-4ABF-80C6-71A71407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86744"/>
          <p:cNvPicPr/>
          <p:nvPr/>
        </p:nvPicPr>
        <p:blipFill>
          <a:blip r:embed="rId1"/>
          <a:stretch/>
        </p:blipFill>
        <p:spPr>
          <a:xfrm>
            <a:off x="3124080" y="3505320"/>
            <a:ext cx="2286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law of inert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1st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1676520"/>
            <a:ext cx="4038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t rest remains at rest and an object in motion will stay in motion unless acted upon by anothe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ball will stay at rest unless someone kick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8465040" cy="6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rtia:  objects want to keep doing wh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they were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moving, they kee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mo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hanging out, the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keep hanging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akes a force to get them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nertia1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are i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nertia2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7200" y="6094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gon stops, the blocks want to stay in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hange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53352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038480" y="11430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force, mass, and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 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: Newton o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accele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lephant"/>
          <p:cNvPicPr/>
          <p:nvPr/>
        </p:nvPicPr>
        <p:blipFill>
          <a:blip r:embed="rId1"/>
          <a:stretch/>
        </p:blipFill>
        <p:spPr>
          <a:xfrm>
            <a:off x="0" y="990720"/>
            <a:ext cx="5541840" cy="5562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8580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rce will the man need to use if he wants to make the 1 kg elephant move at 5 m/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800600" y="1295280"/>
            <a:ext cx="4038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48320" y="1523880"/>
            <a:ext cx="4038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action there is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Billiards, bumper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hotgun"/>
          <p:cNvPicPr/>
          <p:nvPr/>
        </p:nvPicPr>
        <p:blipFill>
          <a:blip r:embed="rId3"/>
          <a:stretch/>
        </p:blipFill>
        <p:spPr>
          <a:xfrm>
            <a:off x="5867280" y="3952800"/>
            <a:ext cx="22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3 balloon"/>
          <p:cNvPicPr/>
          <p:nvPr/>
        </p:nvPicPr>
        <p:blipFill>
          <a:blip r:embed="rId4"/>
          <a:stretch/>
        </p:blipFill>
        <p:spPr>
          <a:xfrm>
            <a:off x="457200" y="2971800"/>
            <a:ext cx="300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2:40:41Z</dcterms:created>
  <dc:creator>Jean Kavanagh</dc:creator>
  <dc:description/>
  <dc:language>en-US</dc:language>
  <cp:lastModifiedBy>Jean Kavanagh</cp:lastModifiedBy>
  <dcterms:modified xsi:type="dcterms:W3CDTF">2009-11-11T20:59:51Z</dcterms:modified>
  <cp:revision>9</cp:revision>
  <dc:subject/>
  <dc:title>Newton’s Laws of Motion</dc:title>
</cp:coreProperties>
</file>